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2295-414D-4E57-9AB2-7E06686E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9C9F-6FA7-41E3-BF21-9EE22F2D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2200-4783-4FBF-ABF8-97F7E664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CB73-5F0C-4120-A51C-3E105069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3EB7-D511-42B1-A9CC-54313F58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C7DC-7674-419C-96DF-9CF64ABC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E439-B0F8-4887-B446-D555F404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5190-F29C-4481-B7BE-138AE275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380C-E049-4D0B-8193-EA558D12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BC60-070E-4F82-858E-9DD9B776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8A0C-8334-46EC-B5B1-18E37B30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0A83-54F7-4420-8A35-D24A1941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9B5E-07DD-4C46-B593-C7C02E587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295280"/>
            <a:ext cx="8382240" cy="4572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09120" y="38858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9, LESSON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46-4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K. 3:7-12; MATT. 12:15-21; LK. 6:12-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IR, WE WOULD SEE JESUS”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Great Galilean Ministry -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8AFC-1A81-42C7-985A-79C88222457E}" type="slidenum">
              <a:t>1</a:t>
            </a:fld>
          </a:p>
        </p:txBody>
      </p:sp>
    </p:spTree>
  </p:cSld>
  <p:transition spd="med" advTm="5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ife of Chris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826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Years of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of Joh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of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ight Into Egy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In The Temple At Age 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of Joh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BFDC-C375-4823-B918-8FEC8A16BC61}" type="slidenum">
              <a:t>2</a:t>
            </a:fld>
          </a:p>
        </p:txBody>
      </p:sp>
    </p:spTree>
  </p:cSld>
  <p:transition spd="med" advTm="20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ife of Chris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826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ning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ptism of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tations of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’s Testimony of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Miracle In C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sing of the Te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aches In Judea’s Countrys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urns to Galil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3BBB-E30C-451A-95FC-8E51FCDF9949}" type="slidenum">
              <a:t>3</a:t>
            </a:fld>
          </a:p>
        </p:txBody>
      </p:sp>
    </p:spTree>
  </p:cSld>
  <p:transition spd="med" advTm="25000"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ife of Chris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826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alilean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ernaum – He returns there of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ostles Called - Peter, Andrew, James, and John to be fishers of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Multitu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Mira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hew Ca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B5E5-FBF7-482E-99FF-0FC1D42752EB}" type="slidenum">
              <a:t>4</a:t>
            </a:fld>
          </a:p>
        </p:txBody>
      </p:sp>
    </p:spTree>
  </p:cSld>
  <p:transition spd="med" advTm="30000">
    <p:blinds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4:18:45Z</dcterms:created>
  <dc:creator>billy lauderdale</dc:creator>
  <dc:description/>
  <dc:language>en-US</dc:language>
  <cp:lastModifiedBy>Frank D Vines</cp:lastModifiedBy>
  <dcterms:modified xsi:type="dcterms:W3CDTF">2006-08-13T13:20:44Z</dcterms:modified>
  <cp:revision>23</cp:revision>
  <dc:subject/>
  <dc:title>SIR, WE WOULD SEE JESUS  -GREAT GALILEAN MINISTRY- </dc:title>
</cp:coreProperties>
</file>